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AD4-73A1-438B-BB7F-B73B1CE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1A0-A935-4CAC-8AA2-B7C54603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0F2-19EC-4AA6-A82F-2631BFD6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5CE-790F-46E6-9BE7-FA65AD24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318-45F1-4788-A395-2B23300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1FD-1571-4A01-A3DB-50EB0D33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4ED-6D00-4FFB-BDC6-52D1FEC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6B7-FA59-49F9-95E0-48E9F4E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9F9-9DA0-4ABB-80C9-0927CE05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2A3-A176-4029-B4D9-1E7A949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F03-7536-4C8A-B30C-A976DEE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F3C-DE51-409F-9B96-E5047BE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4DDC5-66D6-4721-BDF5-0CA12274C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D28EE-9D8B-4DA1-8812-DC89E39A2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2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How many parents are involved in sexual reproduction?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vs. 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3"/>
          <p:cNvSpPr/>
          <p:nvPr/>
        </p:nvSpPr>
        <p:spPr>
          <a:xfrm>
            <a:off x="200160" y="2225520"/>
            <a:ext cx="5337000" cy="422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562200" y="2225520"/>
            <a:ext cx="5338800" cy="422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038240" y="1728720"/>
            <a:ext cx="35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591080" y="1703520"/>
            <a:ext cx="35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vs. 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, in your same groups, write a paragraph comparing and contrasting sexual and asexual reproduction.  You can use the provided template, but you will not have the template on the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3.7 Independent Practic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plete the independent practice on a separate sheet of paper from your notes (you will be turning this in at the end of class)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s (team prize ba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z Re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– Venn Diagrams and writing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Practice – Team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 –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After today, you will be able to create a Venn diagram and write a brief paragraph comparing and contrasting sexual and asexual reproduction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8 on the writing rubric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323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3.7 Comparing and Contrasting Sexual and Asexual Reproduction Class Not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nn Diagra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Prokaryotic vs. Eukaryotic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3"/>
          <p:cNvSpPr/>
          <p:nvPr/>
        </p:nvSpPr>
        <p:spPr>
          <a:xfrm>
            <a:off x="0" y="2225520"/>
            <a:ext cx="5780160" cy="444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363840" y="2225520"/>
            <a:ext cx="5780160" cy="444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703680" y="3121200"/>
            <a:ext cx="2138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are types of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ontain 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contain 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33480" y="17445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249880" y="17175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71400" y="2754360"/>
            <a:ext cx="2907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no nucle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nly organelles are rib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42960" y="4824360"/>
            <a:ext cx="293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Bacteria are prokaryotic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918040" y="2906640"/>
            <a:ext cx="2907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a nucle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many organel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imals, plants, and fungi have eukaryotic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Sexual and Asexual Reproduction are both _________________. However, they are different in many ways.  Sexual reproduction happens between ______ parents, while asexual reproduction involves only ____ parent. 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-360"/>
            <a:ext cx="91440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The offspring produced by sexual reproduction have ___________ DNA to/from the parents.  However, the offspring produced by asexual reproduction have ____________ DNA to the parent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omplete the following diagrams in groups of 2-3 within your team.  Feel free to use color in your diagrams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3:48:13Z</dcterms:created>
  <dc:creator>Caroline Roth</dc:creator>
  <dc:description/>
  <dc:language>en-US</dc:language>
  <cp:lastModifiedBy>Caroline Roth</cp:lastModifiedBy>
  <dcterms:modified xsi:type="dcterms:W3CDTF">2010-10-25T04:58:42Z</dcterms:modified>
  <cp:revision>5</cp:revision>
  <dc:subject/>
  <dc:title>Bellringer</dc:title>
</cp:coreProperties>
</file>